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FE1-BA88-4D0D-8A5A-120BDD81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CE8-A7DE-4759-A9C8-5A1A7949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EBD-CA2A-4183-A646-66C5688E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AD0-FD71-4BAD-9453-ED7F8284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404-0505-46C4-B9D8-BBCD7226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72E-CA83-49CD-BFFF-38F2DA3D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F77-099B-4231-995B-321BC139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311-433E-47CF-B9AF-4B065E3F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D01-4C09-4844-90A9-9CD0BB0C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B3C-7C15-4591-A9FE-48AAE999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15D-1430-4F4E-9499-7E17ABE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F08-BD67-427B-9D8B-B57C4CA1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8F2D-D4FF-49B7-A583-13B871BF9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__________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2T23:28:30Z</dcterms:modified>
  <cp:revision>3</cp:revision>
  <dc:subject/>
  <dc:title>Digital ___________</dc:title>
</cp:coreProperties>
</file>